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5.wmf" ContentType="image/x-wmf"/>
  <Override PartName="/ppt/media/image53.gif" ContentType="image/gif"/>
  <Override PartName="/ppt/media/image13.wmf" ContentType="image/x-wmf"/>
  <Override PartName="/ppt/media/image52.wmf" ContentType="image/x-wmf"/>
  <Override PartName="/ppt/media/image27.gif" ContentType="image/gif"/>
  <Override PartName="/ppt/media/image24.jpeg" ContentType="image/jpeg"/>
  <Override PartName="/ppt/media/image51.wmf" ContentType="image/x-wmf"/>
  <Override PartName="/ppt/media/image49.wmf" ContentType="image/x-wmf"/>
  <Override PartName="/ppt/media/image47.wmf" ContentType="image/x-wmf"/>
  <Override PartName="/ppt/media/image32.png" ContentType="image/png"/>
  <Override PartName="/ppt/media/image25.jpeg" ContentType="image/jpeg"/>
  <Override PartName="/ppt/media/image62.wmf" ContentType="image/x-wmf"/>
  <Override PartName="/ppt/media/image22.png" ContentType="image/png"/>
  <Override PartName="/ppt/media/image3.jpeg" ContentType="image/jpeg"/>
  <Override PartName="/ppt/media/image7.jpeg" ContentType="image/jpeg"/>
  <Override PartName="/ppt/media/image68.wmf" ContentType="image/x-wmf"/>
  <Override PartName="/ppt/media/image31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57.wmf" ContentType="image/x-wmf"/>
  <Override PartName="/ppt/media/image56.wmf" ContentType="image/x-wmf"/>
  <Override PartName="/ppt/media/image23.gif" ContentType="image/gif"/>
  <Override PartName="/ppt/media/image20.jpeg" ContentType="image/jpeg"/>
  <Override PartName="/ppt/media/image59.wmf" ContentType="image/x-wmf"/>
  <Override PartName="/ppt/media/image67.wmf" ContentType="image/x-wmf"/>
  <Override PartName="/ppt/media/image30.wmf" ContentType="image/x-wmf"/>
  <Override PartName="/ppt/media/image19.jpeg" ContentType="image/jpeg"/>
  <Override PartName="/ppt/media/image65.wmf" ContentType="image/x-wmf"/>
  <Override PartName="/ppt/media/image66.wmf" ContentType="image/x-wmf"/>
  <Override PartName="/ppt/media/image54.wmf" ContentType="image/x-wmf"/>
  <Override PartName="/ppt/media/image21.gif" ContentType="image/gif"/>
  <Override PartName="/ppt/media/image6.jpeg" ContentType="image/jpeg"/>
  <Override PartName="/ppt/media/image58.wmf" ContentType="image/x-wmf"/>
  <Override PartName="/ppt/media/image64.wmf" ContentType="image/x-wmf"/>
  <Override PartName="/ppt/media/image11.jpeg" ContentType="image/jpeg"/>
  <Override PartName="/ppt/media/image63.wmf" ContentType="image/x-wmf"/>
  <Override PartName="/ppt/media/image61.wmf" ContentType="image/x-wmf"/>
  <Override PartName="/ppt/media/image60.wmf" ContentType="image/x-wmf"/>
  <Override PartName="/ppt/media/image4.jpeg" ContentType="image/jpeg"/>
  <Override PartName="/ppt/media/image38.wmf" ContentType="image/x-wmf"/>
  <Override PartName="/ppt/media/image26.jpeg" ContentType="image/jpeg"/>
  <Override PartName="/ppt/media/image5.jpeg" ContentType="image/jpeg"/>
  <Override PartName="/ppt/media/image33.jpeg" ContentType="image/jpeg"/>
  <Override PartName="/ppt/media/image48.wmf" ContentType="image/x-wmf"/>
  <Override PartName="/ppt/media/image28.gif" ContentType="image/gif"/>
  <Override PartName="/ppt/media/image16.wmf" ContentType="image/x-wmf"/>
  <Override PartName="/ppt/media/image8.png" ContentType="image/png"/>
  <Override PartName="/ppt/media/image17.png" ContentType="image/png"/>
  <Override PartName="/ppt/media/image2.gif" ContentType="image/gif"/>
  <Override PartName="/ppt/media/image39.jpeg" ContentType="image/jpeg"/>
  <Override PartName="/ppt/media/image41.wmf" ContentType="image/x-wmf"/>
  <Override PartName="/ppt/media/image35.wmf" ContentType="image/x-wmf"/>
  <Override PartName="/ppt/media/image10.gif" ContentType="image/gif"/>
  <Override PartName="/ppt/media/image43.wmf" ContentType="image/x-wmf"/>
  <Override PartName="/ppt/media/image34.wmf" ContentType="image/x-wmf"/>
  <Override PartName="/ppt/media/image36.wmf" ContentType="image/x-wmf"/>
  <Override PartName="/ppt/media/image12.jpeg" ContentType="image/jpeg"/>
  <Override PartName="/ppt/media/image29.jpeg" ContentType="image/jpeg"/>
  <Override PartName="/ppt/media/image37.wmf" ContentType="image/x-wmf"/>
  <Override PartName="/ppt/media/image18.png" ContentType="image/png"/>
  <Override PartName="/ppt/media/image40.wmf" ContentType="image/x-wmf"/>
  <Override PartName="/ppt/media/image42.gif" ContentType="image/gif"/>
  <Override PartName="/ppt/media/image44.wmf" ContentType="image/x-wmf"/>
  <Override PartName="/ppt/media/image45.wmf" ContentType="image/x-wmf"/>
  <Override PartName="/ppt/media/image46.wmf" ContentType="image/x-wmf"/>
  <Override PartName="/ppt/media/image9.gif" ContentType="image/gif"/>
  <Override PartName="/ppt/media/image6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FEF-01B7-43B5-976F-72B24935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DE3-AC7D-47FA-8F9C-249467AB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7F4-7EDB-4741-8AA7-0BE0ED77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00B-585B-46A6-85D5-A1E274E2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74B8-5494-4380-82DA-CA12A6B3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7A65-2042-4A23-A4E2-F0D19D15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A83B-C8E3-4DE6-84A9-77DD572D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9B1B-1F73-48BE-903D-5DC634B1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5A74-75DC-4EDB-961C-69B0FF6A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712C-27A3-4E21-9268-628848C3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7A44-CF6C-4233-BD74-4122A0EE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FAE-F1EF-4447-AB62-BF9231C9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E194-6210-4340-BB08-A048994E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0EFF-E1C4-4BF4-BF49-8AF51757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B6AA-3E0E-4145-A8D5-E4B25265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9F79-D87F-4FD9-B72E-BB84FCFD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B827-A986-4D3C-ADD9-9C3474B6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A4C-AE25-4A7A-9397-976C5764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7376-A7E1-4634-8781-3FC0CB7E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308-A6AE-4F02-980E-25B18D96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EBD7-84EF-4C6C-A8EE-96E39679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167-F7FB-4E27-9EDD-82BDA83A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C4B-CF76-4D2D-B4B4-2F366C7B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C738-3648-49DE-9DB1-A3823071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11BB-916B-4064-AC87-D36BAB1F0A06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2400-AF3A-422B-A1CD-3D781BAE2B30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gwww.cn/nPost/J1/42204.htm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2.gif"/><Relationship Id="rId5" Type="http://schemas.openxmlformats.org/officeDocument/2006/relationships/image" Target="../media/image53.gif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3.3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解一元一次方程（二）</a:t>
            </a: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--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去括号与去分母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114300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简下列各式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2011320"/>
            <a:ext cx="49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＋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3829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 ＋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4754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－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－（－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2743200"/>
            <a:ext cx="19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55166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914400"/>
            <a:ext cx="3352680" cy="1905120"/>
          </a:xfrm>
          <a:prstGeom prst="cloudCallout">
            <a:avLst>
              <a:gd name="adj1" fmla="val 10750"/>
              <a:gd name="adj2" fmla="val 91500"/>
            </a:avLst>
          </a:prstGeom>
          <a:solidFill>
            <a:srgbClr val="99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想一想去括号时符号变化规律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2590920"/>
            <a:ext cx="754380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去括号法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黑体"/>
              </a:rPr>
              <a:t>1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  <a:ea typeface="黑体"/>
              </a:rPr>
              <a:t>．括号外的因数是正数，去括号后各项的符号与原括号内相应各项的符号相同．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  <a:ea typeface="黑体"/>
              </a:rPr>
              <a:t>　　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黑体"/>
              </a:rPr>
              <a:t>2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  <a:ea typeface="黑体"/>
              </a:rPr>
              <a:t>．括号外的因数是负数，去括号后各项的符号与原括号内相应各项的符号相反．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48120" y="609480"/>
            <a:ext cx="4914360" cy="1344600"/>
            <a:chOff x="3048120" y="609480"/>
            <a:chExt cx="4914360" cy="1344600"/>
          </a:xfrm>
        </p:grpSpPr>
        <p:sp>
          <p:nvSpPr>
            <p:cNvPr id="125" name="desk1"/>
            <p:cNvSpPr/>
            <p:nvPr/>
          </p:nvSpPr>
          <p:spPr>
            <a:xfrm>
              <a:off x="3048120" y="1049040"/>
              <a:ext cx="2719080" cy="905040"/>
            </a:xfrm>
            <a:prstGeom prst="pie">
              <a:avLst/>
            </a:prstGeom>
            <a:solidFill>
              <a:srgbClr val="ff00ff">
                <a:alpha val="42000"/>
              </a:srgbClr>
            </a:solidFill>
            <a:ln w="9360">
              <a:solidFill>
                <a:srgbClr val="3366ff"/>
              </a:solidFill>
              <a:miter/>
            </a:ln>
            <a:effectLst>
              <a:outerShdw dist="153753" dir="2700000" blurRad="0" rotWithShape="0">
                <a:srgbClr val="ff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知识回顾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495840" y="609480"/>
              <a:ext cx="1466640" cy="1344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27160" y="501480"/>
            <a:ext cx="32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这个方程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295280" y="1447920"/>
            <a:ext cx="5562720" cy="533160"/>
            <a:chOff x="1295280" y="1447920"/>
            <a:chExt cx="5562720" cy="533160"/>
          </a:xfrm>
        </p:grpSpPr>
        <p:sp>
          <p:nvSpPr>
            <p:cNvPr id="129" name=""/>
            <p:cNvSpPr/>
            <p:nvPr/>
          </p:nvSpPr>
          <p:spPr>
            <a:xfrm>
              <a:off x="1371600" y="1447920"/>
              <a:ext cx="548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3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38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）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= 540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95280" y="1447920"/>
              <a:ext cx="3809880" cy="5331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387440" y="2514600"/>
            <a:ext cx="4038480" cy="542880"/>
            <a:chOff x="1387440" y="2514600"/>
            <a:chExt cx="4038480" cy="542880"/>
          </a:xfrm>
        </p:grpSpPr>
        <p:sp>
          <p:nvSpPr>
            <p:cNvPr id="132" name=""/>
            <p:cNvSpPr/>
            <p:nvPr/>
          </p:nvSpPr>
          <p:spPr>
            <a:xfrm>
              <a:off x="1387440" y="2523960"/>
              <a:ext cx="3276720" cy="5335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7920" y="2514600"/>
              <a:ext cx="397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3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690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5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540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447920" y="3809880"/>
            <a:ext cx="4190760" cy="533520"/>
            <a:chOff x="1447920" y="3809880"/>
            <a:chExt cx="4190760" cy="533520"/>
          </a:xfrm>
        </p:grpSpPr>
        <p:sp>
          <p:nvSpPr>
            <p:cNvPr id="135" name=""/>
            <p:cNvSpPr/>
            <p:nvPr/>
          </p:nvSpPr>
          <p:spPr>
            <a:xfrm>
              <a:off x="1447920" y="3809880"/>
              <a:ext cx="3200040" cy="5335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47920" y="3809880"/>
              <a:ext cx="419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3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5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540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690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76520" y="4876920"/>
            <a:ext cx="2438280" cy="533160"/>
            <a:chOff x="1676520" y="4876920"/>
            <a:chExt cx="2438280" cy="533160"/>
          </a:xfrm>
        </p:grpSpPr>
        <p:sp>
          <p:nvSpPr>
            <p:cNvPr id="138" name=""/>
            <p:cNvSpPr/>
            <p:nvPr/>
          </p:nvSpPr>
          <p:spPr>
            <a:xfrm>
              <a:off x="1676520" y="4876920"/>
              <a:ext cx="2438280" cy="5331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17000" y="4876920"/>
              <a:ext cx="196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2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＝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50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073240" y="5877000"/>
            <a:ext cx="1371600" cy="587160"/>
            <a:chOff x="2073240" y="5877000"/>
            <a:chExt cx="1371600" cy="587160"/>
          </a:xfrm>
        </p:grpSpPr>
        <p:sp>
          <p:nvSpPr>
            <p:cNvPr id="141" name=""/>
            <p:cNvSpPr/>
            <p:nvPr/>
          </p:nvSpPr>
          <p:spPr>
            <a:xfrm>
              <a:off x="2197440" y="5943600"/>
              <a:ext cx="109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75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3240" y="5877000"/>
              <a:ext cx="1371600" cy="5335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99120" y="2468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1981080"/>
            <a:ext cx="176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去括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312408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移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311720"/>
            <a:ext cx="25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合并同类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51040" y="53341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20574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54100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44197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31240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905120"/>
            <a:ext cx="1981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去括号法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2286000"/>
            <a:ext cx="16765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467676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由上可知，顾客买蓝布料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7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俄尺．所以买黑布料：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38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7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6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俄尺）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09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题：王大伯承包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亩土地，今年春季改种茄子和西红柿两种大棚蔬菜，用去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4 0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其中种茄子每亩用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7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种西红柿每亩用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．问两蔬菜各种了多少亩？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666880"/>
            <a:ext cx="725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分析：设王大伯共种了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亩茄子，则他种西红柿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__________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亩．种茄子每亩用了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70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元．那么种茄子一共用去了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元； 种西红柿每亩用了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80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元，则他种西红柿共用去了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______________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元．根据王大伯种这两种蔬菜共用去了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400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元，可列方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50840" y="3048120"/>
            <a:ext cx="16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480" y="35053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700x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2360" y="4343400"/>
            <a:ext cx="25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800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5410080"/>
            <a:ext cx="57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700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800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4 0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5334120"/>
            <a:ext cx="2590920" cy="1143000"/>
          </a:xfrm>
          <a:prstGeom prst="cloudCallout">
            <a:avLst>
              <a:gd name="adj1" fmla="val -53310"/>
              <a:gd name="adj2" fmla="val 42916"/>
            </a:avLst>
          </a:prstGeom>
          <a:solidFill>
            <a:srgbClr val="ff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怎样解这个方程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143000" y="609480"/>
            <a:ext cx="6019920" cy="533520"/>
            <a:chOff x="1143000" y="609480"/>
            <a:chExt cx="6019920" cy="533520"/>
          </a:xfrm>
        </p:grpSpPr>
        <p:sp>
          <p:nvSpPr>
            <p:cNvPr id="163" name=""/>
            <p:cNvSpPr/>
            <p:nvPr/>
          </p:nvSpPr>
          <p:spPr>
            <a:xfrm>
              <a:off x="1143000" y="609480"/>
              <a:ext cx="601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 700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 800 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25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）＝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44 000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．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609480"/>
              <a:ext cx="5562720" cy="5335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048120" y="5867280"/>
            <a:ext cx="1600200" cy="587160"/>
            <a:chOff x="3048120" y="5867280"/>
            <a:chExt cx="1600200" cy="587160"/>
          </a:xfrm>
        </p:grpSpPr>
        <p:sp>
          <p:nvSpPr>
            <p:cNvPr id="166" name=""/>
            <p:cNvSpPr/>
            <p:nvPr/>
          </p:nvSpPr>
          <p:spPr>
            <a:xfrm>
              <a:off x="3260880" y="5933880"/>
              <a:ext cx="138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5867280"/>
              <a:ext cx="1371600" cy="5335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86000" y="4648320"/>
            <a:ext cx="2743200" cy="533160"/>
            <a:chOff x="2286000" y="4648320"/>
            <a:chExt cx="2743200" cy="533160"/>
          </a:xfrm>
        </p:grpSpPr>
        <p:sp>
          <p:nvSpPr>
            <p:cNvPr id="169" name=""/>
            <p:cNvSpPr/>
            <p:nvPr/>
          </p:nvSpPr>
          <p:spPr>
            <a:xfrm>
              <a:off x="2297160" y="4648320"/>
              <a:ext cx="259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00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＝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 000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86000" y="4648320"/>
              <a:ext cx="2743200" cy="5331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329120" y="1905120"/>
            <a:ext cx="5300280" cy="533160"/>
            <a:chOff x="1329120" y="1905120"/>
            <a:chExt cx="5300280" cy="533160"/>
          </a:xfrm>
        </p:grpSpPr>
        <p:sp>
          <p:nvSpPr>
            <p:cNvPr id="172" name=""/>
            <p:cNvSpPr/>
            <p:nvPr/>
          </p:nvSpPr>
          <p:spPr>
            <a:xfrm>
              <a:off x="1329120" y="1905120"/>
              <a:ext cx="525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 700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45 000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 800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44 000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71600" y="1905120"/>
              <a:ext cx="5257800" cy="5331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95280" y="3200400"/>
            <a:ext cx="5334120" cy="533520"/>
            <a:chOff x="1295280" y="3200400"/>
            <a:chExt cx="5334120" cy="533520"/>
          </a:xfrm>
        </p:grpSpPr>
        <p:sp>
          <p:nvSpPr>
            <p:cNvPr id="175" name=""/>
            <p:cNvSpPr/>
            <p:nvPr/>
          </p:nvSpPr>
          <p:spPr>
            <a:xfrm>
              <a:off x="1328760" y="3200400"/>
              <a:ext cx="525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 700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 800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44 000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45 000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95280" y="3200400"/>
              <a:ext cx="5334120" cy="5335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505320" y="121932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5257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38862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25146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1219320"/>
            <a:ext cx="176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去括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07960" y="2590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移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70360" y="385452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合并同类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51814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4038480"/>
            <a:ext cx="3048120" cy="1981440"/>
          </a:xfrm>
          <a:prstGeom prst="cloudCallout">
            <a:avLst>
              <a:gd name="adj1" fmla="val -50523"/>
              <a:gd name="adj2" fmla="val 66907"/>
            </a:avLst>
          </a:prstGeom>
          <a:solidFill>
            <a:srgbClr val="ff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去括号是解方程时常用的变形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920" y="18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391520" y="11430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95280" y="76032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由上可知，种茄子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亩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所以种西红柿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亩）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种茄子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亩，种西红柿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亩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3048120" cy="3876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809880" y="25146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66680" y="990720"/>
            <a:ext cx="698508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方程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438280"/>
            <a:ext cx="617220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去括号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合并同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03480" y="828720"/>
            <a:ext cx="74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 ＝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6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1600200"/>
            <a:ext cx="58068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去括号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x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合并同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209680" y="5334120"/>
            <a:ext cx="1143000" cy="876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0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1066680"/>
            <a:ext cx="70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讨论：解一元一次方程的步骤是什么</a:t>
            </a:r>
            <a:r>
              <a:rPr b="1" lang="zh-CN" sz="4800" spc="-1" strike="noStrike">
                <a:solidFill>
                  <a:srgbClr val="0000b0"/>
                </a:solidFill>
                <a:latin typeface="Times New Roman"/>
                <a:ea typeface="隶书"/>
              </a:rPr>
              <a:t>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12408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）去括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）移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）合并同类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4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）系数化成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2620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x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=9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－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x+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95320" y="4952880"/>
            <a:ext cx="6041880" cy="1036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85800" y="3352680"/>
            <a:ext cx="662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x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＝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x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 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 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=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 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600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下列方程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5909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34320" y="3276720"/>
            <a:ext cx="1003320" cy="8762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315200" y="4267080"/>
            <a:ext cx="1023840" cy="776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150320" y="533412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90720" y="366840"/>
            <a:ext cx="2620800" cy="852480"/>
            <a:chOff x="990720" y="366840"/>
            <a:chExt cx="2620800" cy="852480"/>
          </a:xfrm>
        </p:grpSpPr>
        <p:sp>
          <p:nvSpPr>
            <p:cNvPr id="207" name=""/>
            <p:cNvSpPr/>
            <p:nvPr/>
          </p:nvSpPr>
          <p:spPr>
            <a:xfrm>
              <a:off x="1459080" y="4255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5"/>
            <a:stretch/>
          </p:blipFill>
          <p:spPr>
            <a:xfrm>
              <a:off x="990720" y="3668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4000320"/>
            <a:ext cx="60195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巴甫洛维奇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契诃夫是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世纪末俄国现实主义代表作家之一，是杰出的短篇小说家与戏剧家．他在上大学期间，就为当时的幽默杂志撰写短篇小说．契诃夫的作品对俄国文学和戏剧的发展有重大影响．他对数学也很感兴趣，在短篇小说《家庭教师》中就有下面一道趣题： 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7760" y="457200"/>
            <a:ext cx="2849400" cy="1709640"/>
            <a:chOff x="3047760" y="457200"/>
            <a:chExt cx="2849400" cy="1709640"/>
          </a:xfrm>
        </p:grpSpPr>
        <p:sp>
          <p:nvSpPr>
            <p:cNvPr id="84" name="filecab3"/>
            <p:cNvSpPr/>
            <p:nvPr/>
          </p:nvSpPr>
          <p:spPr>
            <a:xfrm rot="10800000">
              <a:off x="3047760" y="13284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新课导入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3665520" y="45720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553080" y="2743200"/>
            <a:ext cx="254952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0880" y="1295280"/>
            <a:ext cx="83534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某校准备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奖金全部发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名三好生，其中市级三好生每人得奖金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校级三好生每人得奖金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请问全校市级三好生、校级三好生各有多少人？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581280"/>
            <a:ext cx="708660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高全校市级三好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，列方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00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解，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所以校级三好生：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人）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市级三好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；校级三好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60480" y="366840"/>
            <a:ext cx="2620800" cy="852480"/>
            <a:chOff x="960480" y="366840"/>
            <a:chExt cx="2620800" cy="852480"/>
          </a:xfrm>
        </p:grpSpPr>
        <p:sp>
          <p:nvSpPr>
            <p:cNvPr id="212" name=""/>
            <p:cNvSpPr/>
            <p:nvPr/>
          </p:nvSpPr>
          <p:spPr>
            <a:xfrm>
              <a:off x="1428840" y="4255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960480" y="3668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mb dir="horz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77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77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1" dur="77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5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38080" y="1416960"/>
            <a:ext cx="7896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个笼中装有鸡、兔若干只，从上面看，共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头；从下面看，共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脚，问鸡、兔各有多少只．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3352680"/>
            <a:ext cx="685800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鸡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只，列方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1-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解，得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所以兔的个数为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只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笼中有鸡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只，兔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只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6" name="" descr="">
            <a:hlinkClick r:id="rId2"/>
          </p:cNvPr>
          <p:cNvPicPr/>
          <p:nvPr/>
        </p:nvPicPr>
        <p:blipFill>
          <a:blip r:embed="rId3"/>
          <a:srcRect l="0" t="0" r="-175" b="83"/>
          <a:stretch/>
        </p:blipFill>
        <p:spPr>
          <a:xfrm>
            <a:off x="5715000" y="2527200"/>
            <a:ext cx="3124080" cy="2465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66680" y="53352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李白街上走，提壶去买酒，遇店加一倍，见花喝一斗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遇店和花，喝光壶中酒，试问酒壶中原有多少酒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5486400" y="2438280"/>
            <a:ext cx="3025800" cy="2165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209680" y="518112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斗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古代的一个计量单位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斗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 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升 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rcRect l="0" t="0" r="0" b="40"/>
          <a:stretch/>
        </p:blipFill>
        <p:spPr>
          <a:xfrm>
            <a:off x="838080" y="2590920"/>
            <a:ext cx="4268880" cy="1706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235160" y="609480"/>
            <a:ext cx="632448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：设酒壶中原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斗酒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第一次遇店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第一次遇花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第二次遇店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第二次遇花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第三次遇店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第三次遇花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54320" y="1157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78360" y="16146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54320" y="21337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54320" y="2529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54320" y="30481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16520" y="3505320"/>
            <a:ext cx="31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44640" y="3962520"/>
            <a:ext cx="29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列方程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54120" y="44197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.87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5715000"/>
            <a:ext cx="64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酒壶中原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.87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斗酒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77120" y="4191120"/>
            <a:ext cx="1326960" cy="1523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77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7" dur="77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9" dur="77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1" dur="77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14400" y="137088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一艘轮船在两个码头之间航行，顺水航行需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，逆水行驶需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，水流的速度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求轮船在静水中的行驶速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4876920"/>
            <a:ext cx="8229600" cy="116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分析：已知两个码头之间的距离相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所以：顺流速度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顺流时间＝逆流速度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逆流时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2362320" cy="2289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90720" y="309096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去括号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移项及合并同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船在静水中的行驶速度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千米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880920"/>
            <a:ext cx="7407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轮船在静水中的行驶速度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千米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则顺流速度为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千米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，逆流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度为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千米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可列方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×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×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1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3520" y="2286000"/>
            <a:ext cx="807696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常用的关系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顺流时的速度</a:t>
            </a:r>
            <a:r>
              <a:rPr b="0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=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静水中的速度</a:t>
            </a:r>
            <a:r>
              <a:rPr b="0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+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水流的速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逆流时的速度</a:t>
            </a:r>
            <a:r>
              <a:rPr b="0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=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静水中的速度</a:t>
            </a:r>
            <a:r>
              <a:rPr b="0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-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水流的速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29000" y="762120"/>
            <a:ext cx="2770200" cy="947520"/>
            <a:chOff x="3429000" y="762120"/>
            <a:chExt cx="2770200" cy="947520"/>
          </a:xfrm>
        </p:grpSpPr>
        <p:sp>
          <p:nvSpPr>
            <p:cNvPr id="239" name=""/>
            <p:cNvSpPr txBox="1"/>
            <p:nvPr/>
          </p:nvSpPr>
          <p:spPr>
            <a:xfrm>
              <a:off x="3429000" y="985680"/>
              <a:ext cx="1441440" cy="60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292720" y="76212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vert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3520" y="204084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 一艘轮船从一码头逆流而上，再顺流而下．如果轮船在静水中的速度为每小时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，水流速度为每小时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，那么这艘轮船最多开出多远然后返回才能保证在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内回到原码头？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3746520"/>
            <a:ext cx="761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解：设这艘轮船开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时后多返回，才能保证在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.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时内回到原码头． 列方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.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解，得：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.5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即轮船开出后： 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千米）后，返回才能保证在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.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时内回到原码头．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036800" y="366840"/>
            <a:ext cx="2620800" cy="852480"/>
            <a:chOff x="1036800" y="366840"/>
            <a:chExt cx="2620800" cy="852480"/>
          </a:xfrm>
        </p:grpSpPr>
        <p:sp>
          <p:nvSpPr>
            <p:cNvPr id="244" name=""/>
            <p:cNvSpPr/>
            <p:nvPr/>
          </p:nvSpPr>
          <p:spPr>
            <a:xfrm>
              <a:off x="1505160" y="4255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1036800" y="3668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1981440"/>
            <a:ext cx="79246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 甲、乙两人在一条长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的环形跑道上跑步．甲的速度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6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，乙的速度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．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人同时同地同向跑，多长时间两人第一次相遇，此时两人一共跑了几圈？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人同时同地反向跑，几秒后两人第一次相遇？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人同时同向跑，甲先跑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秒，问还要多长时间两人第一次相遇？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人同时同向跑，乙先跑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秒，问还要多长时间两人第一次相遇？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560" y="289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38070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04080" y="4735440"/>
            <a:ext cx="13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秒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96040" y="563580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秒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90720" y="1702080"/>
            <a:ext cx="73911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一小船由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港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港顺流行驶航行需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h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由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港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港逆流航行需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h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一天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船从早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由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港出发顺流到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港时，发现救生圈在途中掉落了水中，立即返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1h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找到救生圈．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小船按水流速度由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港漂流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需要多长时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救生圈是在什么时候掉入水中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4495680"/>
            <a:ext cx="16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8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5715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66680" y="1152360"/>
            <a:ext cx="7086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某商人花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54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卢布买了黑布料和蓝布料共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38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俄尺，已知蓝布料每俄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卢布，黑布料每俄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卢布．请问商人买来黑布料、蓝布料各有几俄尺？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53341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如何解决这个问题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5496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卢布和俄尺分别是俄罗斯的货币单位和长度单位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57800" y="4152960"/>
            <a:ext cx="3886200" cy="2019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38080" y="813960"/>
            <a:ext cx="72709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某工厂计划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生产一批零件，后因每小时多生产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件，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不但完成了任务，而且比原计划多生产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件，问原计划生产多少件零件？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5041800"/>
            <a:ext cx="7391520" cy="10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分析：原计划生产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件零件，所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计划每小时生产零件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×2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＝实际每小时生产零件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×2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143000" y="2743200"/>
            <a:ext cx="3124080" cy="2082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442120" y="2666880"/>
            <a:ext cx="1873080" cy="221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90720" y="1222200"/>
            <a:ext cx="72532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原计划每小时生产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件零件，列方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   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4x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+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6x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去括号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        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4x+120-6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6x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移项及合并同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        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成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        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          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所以原计划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6×3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8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件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原计划生产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8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件零件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14400" y="533520"/>
            <a:ext cx="7620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一个服装车间，共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每人每小时加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件衣服或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条裤子，问怎样安排工作才能使衣服和裤子正好配套？（一件衣服配一条裤子）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2971800"/>
            <a:ext cx="30481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分析：为了使每天生产的衣服和裤子正好配套，应使生产的衣服和裤子数量相等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905280" y="2590920"/>
            <a:ext cx="4629240" cy="3471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62120" y="838080"/>
            <a:ext cx="761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做衣服人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，则做裤子的人数为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人．列方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=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去括号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8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x 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移项及合并同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系数化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所以做裤子的人数为：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人）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答：做衣服人的人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，做裤子的人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7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2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7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2" dur="2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7" dur="2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62" dur="2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67" dur="2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72" dur="20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77" dur="20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82" dur="2000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3520" y="1173240"/>
            <a:ext cx="83818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某车间每天能生产甲种零件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，或者乙种零件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．甲、乙两种零件分别取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才能配成一套．要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内生产最多的成套产品，问怎样安排生产甲、乙两种零件的天数？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3200400"/>
            <a:ext cx="6934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生产甲种零件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天，列方程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×100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×1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解，得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则生产乙种零件的天数为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天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应安排生产甲种零件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天，乙种零件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天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036800" y="304920"/>
            <a:ext cx="2620800" cy="852480"/>
            <a:chOff x="1036800" y="304920"/>
            <a:chExt cx="2620800" cy="852480"/>
          </a:xfrm>
        </p:grpSpPr>
        <p:sp>
          <p:nvSpPr>
            <p:cNvPr id="266" name=""/>
            <p:cNvSpPr/>
            <p:nvPr/>
          </p:nvSpPr>
          <p:spPr>
            <a:xfrm>
              <a:off x="1505160" y="36360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2"/>
            <a:stretch/>
          </p:blipFill>
          <p:spPr>
            <a:xfrm>
              <a:off x="1036800" y="30492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3962520" y="236520"/>
            <a:ext cx="1371600" cy="601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"/>
                            </p:stCondLst>
                            <p:childTnLst>
                              <p:par>
                                <p:cTn id="1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2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4" dur="2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914400"/>
            <a:ext cx="81532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某水利工地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去挖土和运土，如果每人每天平均挖土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方或运土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方，那么应怎样安排人员，正好能使挖出的土及时运走？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2666880"/>
            <a:ext cx="7102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每天派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挖土，列方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所以每天运土人数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 4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人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每天派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挖土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运土，正好能使挖出的土及时运走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6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7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8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73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5" dur="8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6" dur="8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7" dur="8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33520" y="914400"/>
            <a:ext cx="83055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用白铁皮做罐头盒，每张铁片可制盒身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或制盒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一个盒身与两个盒底配成一套罐头盒．现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张白铁皮，用多少张制盒身，多少张制盒底，可以既使做出的盒身和盒底配套，又能充分地利用白铁皮？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50292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342900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张白铁皮做盒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列方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×16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5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则做盒底的铁皮为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张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用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张白铁皮做盒身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张白铁皮做盒底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9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4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9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4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9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66680" y="1981080"/>
            <a:ext cx="7467840" cy="630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目前初中数学主要分成代数与几何两大部分，其中代数学的最大特点是引人了未知数，建立方程，对未知数加以运算．而最早提出这一思想并加以举例论述的，是古代数学名著《算术》一书，其作者是古希腊后期数学家一“代数学之父”丢番图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3549600"/>
            <a:ext cx="8001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丢番图是希腊数学家，他的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13</a:t>
            </a:r>
            <a:r>
              <a:rPr b="0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卷巨著《算术》在代数符号、数论、代数方程解法等方面均有重要贡献，其不定方程理论对后世产生了巨大影响，以至后人把整系数不定方程称为“丢番图方程”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　　关于丢番图的生平，我们仅能从其墓志铭中略知梗概，这篇墓志铭本身就是一个有趣的数学问题，因为被</a:t>
            </a:r>
            <a:r>
              <a:rPr b="0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世纪数学家麦特劳德尔收入一部数学问题集中，得以流传至今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114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丢番图的生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066680" y="533520"/>
            <a:ext cx="2328840" cy="1100160"/>
            <a:chOff x="1066680" y="533520"/>
            <a:chExt cx="2328840" cy="1100160"/>
          </a:xfrm>
        </p:grpSpPr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1110960" y="533520"/>
              <a:ext cx="219888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066680" y="533520"/>
              <a:ext cx="2328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读一读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902760" y="378000"/>
            <a:ext cx="354132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0" lang="zh-CN" sz="27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这是一座石墓，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　里面安葬着丢番图．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　请你告诉我，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　丢番图寿数几何？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　他一生的六分之一是幸福的童年，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　十二分之一是无忧无虑的少年．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　再过去七分之一的年程，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　他建立了幸福的家庭．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　五年之后儿子出生，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　不料儿子竟先其父四年而终，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　只活到父亲一半的年龄．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　晚年丧子老人真可怜，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　悲痛之中渡过风烛残年．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　请你告诉我，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　丢番图寿数几何？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2404800" cy="3886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1276200"/>
            <a:ext cx="746748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解：设买了蓝布料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俄尺，那么买黑布料（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138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俄尺；因而买蓝布料花了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3x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卢布，买黑布料花了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138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卢布，根据买两种布料共用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540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卢布，列得方程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3x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138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= 540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29160" y="4800600"/>
            <a:ext cx="4919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604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怎样使这个方程转化为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x = a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的形式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2286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解：设丢番图去世时的年龄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岁，由题意可列方程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905120" y="3657600"/>
            <a:ext cx="5638680" cy="858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105280" y="4952880"/>
            <a:ext cx="4919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604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怎样使这个方程转化为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x = a</a:t>
            </a:r>
            <a:r>
              <a:rPr b="0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的形式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8380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你列出方程算一算，丢番图去世时的年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6077160" cy="9255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62120" y="1981080"/>
            <a:ext cx="80010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析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为使方程变为整系数方程，方程两边应该同乘以什么数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54864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各分母的最小公倍数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84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962520" y="3809880"/>
            <a:ext cx="2619360" cy="1241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8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7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09880" y="1309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去分母（方程两边同乘各分母的最小分倍数）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26049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移项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62520" y="504360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6186600"/>
            <a:ext cx="64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答：丢番图去世时的年龄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8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岁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824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合并同类项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371600" y="547560"/>
            <a:ext cx="4800600" cy="762120"/>
            <a:chOff x="1371600" y="547560"/>
            <a:chExt cx="4800600" cy="762120"/>
          </a:xfrm>
        </p:grpSpPr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1523880" y="547560"/>
              <a:ext cx="457200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1371600" y="547560"/>
              <a:ext cx="4800600" cy="762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143000" y="2071800"/>
            <a:ext cx="6111720" cy="520560"/>
            <a:chOff x="1143000" y="2071800"/>
            <a:chExt cx="6111720" cy="520560"/>
          </a:xfrm>
        </p:grpSpPr>
        <p:sp>
          <p:nvSpPr>
            <p:cNvPr id="299" name=""/>
            <p:cNvSpPr/>
            <p:nvPr/>
          </p:nvSpPr>
          <p:spPr>
            <a:xfrm>
              <a:off x="1143000" y="2071800"/>
              <a:ext cx="611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4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7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2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420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42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336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84x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19320" y="2071800"/>
              <a:ext cx="6019560" cy="457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066680" y="3290760"/>
            <a:ext cx="7315200" cy="520560"/>
            <a:chOff x="1066680" y="3290760"/>
            <a:chExt cx="7315200" cy="520560"/>
          </a:xfrm>
        </p:grpSpPr>
        <p:sp>
          <p:nvSpPr>
            <p:cNvPr id="302" name=""/>
            <p:cNvSpPr/>
            <p:nvPr/>
          </p:nvSpPr>
          <p:spPr>
            <a:xfrm>
              <a:off x="1066680" y="3290760"/>
              <a:ext cx="73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4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7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2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42x 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84x 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＝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420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336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43000" y="3290760"/>
              <a:ext cx="6324480" cy="457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438640" y="4510080"/>
            <a:ext cx="2361960" cy="520560"/>
            <a:chOff x="2438640" y="4510080"/>
            <a:chExt cx="2361960" cy="520560"/>
          </a:xfrm>
        </p:grpSpPr>
        <p:sp>
          <p:nvSpPr>
            <p:cNvPr id="305" name=""/>
            <p:cNvSpPr/>
            <p:nvPr/>
          </p:nvSpPr>
          <p:spPr>
            <a:xfrm>
              <a:off x="2450160" y="4510080"/>
              <a:ext cx="214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21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＝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756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38640" y="4510080"/>
              <a:ext cx="2361960" cy="457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819520" y="5653080"/>
            <a:ext cx="1415160" cy="520560"/>
            <a:chOff x="2819520" y="5653080"/>
            <a:chExt cx="1415160" cy="520560"/>
          </a:xfrm>
        </p:grpSpPr>
        <p:sp>
          <p:nvSpPr>
            <p:cNvPr id="308" name=""/>
            <p:cNvSpPr/>
            <p:nvPr/>
          </p:nvSpPr>
          <p:spPr>
            <a:xfrm>
              <a:off x="2836080" y="5653080"/>
              <a:ext cx="13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84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．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19520" y="5653080"/>
              <a:ext cx="1218960" cy="457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352680" y="13860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50436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382428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260496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2640" y="19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14400" y="1530720"/>
            <a:ext cx="746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件珍贵的文物是纸莎草文书，是古代埃及人用象形文字写在一种特殊的草上的著作，至今已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年的历史了，在文书中记载了许多有关数学的问题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4383000"/>
            <a:ext cx="4191120" cy="520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问题：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一个数，它的三分之二，它的一半，它的七分之一，它的全部，加起来总共是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4191120" cy="2921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43000" y="8380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解：设这个数为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可得方程：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4876560" cy="10400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838080" y="3657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为使方程变为整系数方程，方程两边应该同乘以什么数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5334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各分母的最小公倍数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43000" y="1752480"/>
            <a:ext cx="58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去分母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8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1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2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38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　合并同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7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38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　系数化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2044800" y="4413240"/>
            <a:ext cx="1765080" cy="8762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1173240" y="5187960"/>
            <a:ext cx="3598920" cy="9190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1905120" y="685800"/>
            <a:ext cx="4267080" cy="90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1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6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1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3276720" y="990720"/>
            <a:ext cx="2770200" cy="947520"/>
            <a:chOff x="3276720" y="990720"/>
            <a:chExt cx="2770200" cy="947520"/>
          </a:xfrm>
        </p:grpSpPr>
        <p:sp>
          <p:nvSpPr>
            <p:cNvPr id="327" name=""/>
            <p:cNvSpPr txBox="1"/>
            <p:nvPr/>
          </p:nvSpPr>
          <p:spPr>
            <a:xfrm>
              <a:off x="3276720" y="1214280"/>
              <a:ext cx="1441440" cy="60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328" name="" descr=""/>
            <p:cNvPicPr/>
            <p:nvPr/>
          </p:nvPicPr>
          <p:blipFill>
            <a:blip r:embed="rId2"/>
            <a:stretch/>
          </p:blipFill>
          <p:spPr>
            <a:xfrm>
              <a:off x="5140440" y="99072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"/>
          <p:cNvSpPr/>
          <p:nvPr/>
        </p:nvSpPr>
        <p:spPr>
          <a:xfrm>
            <a:off x="685800" y="2666880"/>
            <a:ext cx="784872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去分母时须注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　 </a:t>
            </a:r>
            <a:r>
              <a:rPr b="0" lang="en-US" sz="3000" spc="-1" strike="noStrike">
                <a:solidFill>
                  <a:srgbClr val="0033cc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33cc"/>
                </a:solidFill>
                <a:latin typeface="黑体"/>
                <a:ea typeface="黑体"/>
              </a:rPr>
              <a:t>确定各分母的最小公倍数；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黑体"/>
                <a:ea typeface="黑体"/>
              </a:rPr>
              <a:t>　　</a:t>
            </a:r>
            <a:r>
              <a:rPr b="0" lang="en-US" sz="3000" spc="-1" strike="noStrike">
                <a:solidFill>
                  <a:srgbClr val="0033cc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33cc"/>
                </a:solidFill>
                <a:latin typeface="黑体"/>
                <a:ea typeface="黑体"/>
              </a:rPr>
              <a:t>不要漏乘没有分母的项；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黑体"/>
                <a:ea typeface="黑体"/>
              </a:rPr>
              <a:t>　　</a:t>
            </a:r>
            <a:r>
              <a:rPr b="0" lang="en-US" sz="3000" spc="-1" strike="noStrike">
                <a:solidFill>
                  <a:srgbClr val="0033cc"/>
                </a:solidFill>
                <a:latin typeface="黑体"/>
                <a:ea typeface="黑体"/>
              </a:rPr>
              <a:t>3.</a:t>
            </a:r>
            <a:r>
              <a:rPr b="0" lang="zh-CN" sz="3000" spc="-1" strike="noStrike">
                <a:solidFill>
                  <a:srgbClr val="0033cc"/>
                </a:solidFill>
                <a:latin typeface="黑体"/>
                <a:ea typeface="黑体"/>
              </a:rPr>
              <a:t>去掉分母后，若分子是多项式，要加括号，视多项式为一整体．</a:t>
            </a:r>
            <a:r>
              <a:rPr b="1" lang="en-US" sz="30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72" dur="indefinite" restart="never" nodeType="tmRoot">
          <p:childTnLst>
            <p:seq>
              <p:cTn id="1573" dur="indefinite" nodeType="mainSeq">
                <p:childTnLst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1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050840" y="2057400"/>
            <a:ext cx="80931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有分数系数的一元一次方程的步骤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0" lang="en-US" sz="30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33cc"/>
                </a:solidFill>
                <a:latin typeface="黑体"/>
                <a:ea typeface="黑体"/>
              </a:rPr>
              <a:t>．去分母；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0" lang="en-US" sz="30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33cc"/>
                </a:solidFill>
                <a:latin typeface="黑体"/>
                <a:ea typeface="黑体"/>
              </a:rPr>
              <a:t>．去括号；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0" lang="en-US" sz="30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0" lang="zh-CN" sz="3000" spc="-1" strike="noStrike">
                <a:solidFill>
                  <a:srgbClr val="0033cc"/>
                </a:solidFill>
                <a:latin typeface="黑体"/>
                <a:ea typeface="黑体"/>
              </a:rPr>
              <a:t>．移项；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0" lang="en-US" sz="30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33cc"/>
                </a:solidFill>
                <a:latin typeface="黑体"/>
                <a:ea typeface="黑体"/>
              </a:rPr>
              <a:t>．合并同类项；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0" lang="en-US" sz="30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33cc"/>
                </a:solidFill>
                <a:latin typeface="黑体"/>
                <a:ea typeface="黑体"/>
              </a:rPr>
              <a:t>．系数化为</a:t>
            </a:r>
            <a:r>
              <a:rPr b="0" lang="en-US" sz="30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33cc"/>
                </a:solidFill>
                <a:latin typeface="黑体"/>
                <a:ea typeface="黑体"/>
              </a:rPr>
              <a:t>．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68800" y="533412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主要依据：等式的性质和运算律等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276720" y="685800"/>
            <a:ext cx="2770200" cy="947880"/>
            <a:chOff x="3276720" y="685800"/>
            <a:chExt cx="2770200" cy="947880"/>
          </a:xfrm>
        </p:grpSpPr>
        <p:sp>
          <p:nvSpPr>
            <p:cNvPr id="333" name=""/>
            <p:cNvSpPr txBox="1"/>
            <p:nvPr/>
          </p:nvSpPr>
          <p:spPr>
            <a:xfrm>
              <a:off x="3276720" y="90972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5140440" y="685800"/>
              <a:ext cx="906480" cy="9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"/>
          <p:cNvSpPr/>
          <p:nvPr/>
        </p:nvSpPr>
        <p:spPr>
          <a:xfrm>
            <a:off x="4800600" y="2743200"/>
            <a:ext cx="4038480" cy="1981080"/>
          </a:xfrm>
          <a:prstGeom prst="cloudCallout">
            <a:avLst>
              <a:gd name="adj1" fmla="val -38638"/>
              <a:gd name="adj2" fmla="val 6538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以上步骤是不是一定要顺序进行，缺一不可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8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3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8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3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8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3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33520" y="1111320"/>
            <a:ext cx="8305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碧空万里，一群大雁在飞翔，迎面又飞来一只小灰雁，它对群雁说：“你们好，百只雁！你们百雁齐飞，好气派！可怜我是孤雁独飞．”群雁中一只领头的老雁说：“不对！小朋友，我们远远不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．将我们这一群加倍，再加上半群，又加上四分之一群，最后还得请你也凑上，那才一共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呢，请问这群大雁有多少只？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184560" y="5006880"/>
            <a:ext cx="4184640" cy="936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889280" y="4540320"/>
            <a:ext cx="6645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这群大雁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只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列方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05120" y="57592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方程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50680" y="4495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提示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066680" y="304920"/>
            <a:ext cx="2620800" cy="852480"/>
            <a:chOff x="1066680" y="304920"/>
            <a:chExt cx="2620800" cy="852480"/>
          </a:xfrm>
        </p:grpSpPr>
        <p:sp>
          <p:nvSpPr>
            <p:cNvPr id="342" name=""/>
            <p:cNvSpPr/>
            <p:nvPr/>
          </p:nvSpPr>
          <p:spPr>
            <a:xfrm>
              <a:off x="1535040" y="36360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1066680" y="30492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6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838080" y="1142640"/>
            <a:ext cx="7620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火车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秒的时间通过一个长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的隧道（即从车头进入入口到车尾离开出口），这列火车又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秒的时间通过了长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的隧道，求火车的长度．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297180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火车长度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米，列方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981080" y="3733920"/>
            <a:ext cx="2819520" cy="846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143000" y="4876920"/>
            <a:ext cx="66452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，得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火车的长度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6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米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562720" y="35053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692" dur="indefinite" restart="never" nodeType="tmRoot">
          <p:childTnLst>
            <p:seq>
              <p:cTn id="1693" dur="indefinite" nodeType="mainSeq">
                <p:childTnLst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523880" y="1371600"/>
            <a:ext cx="634392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3.3</a:t>
            </a:r>
            <a:r>
              <a:rPr b="1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　解一元一次方程（二）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　　　——去括号与去分母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62120" y="3276720"/>
            <a:ext cx="7772400" cy="2914560"/>
            <a:chOff x="762120" y="3276720"/>
            <a:chExt cx="7772400" cy="291456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5257800" y="3429000"/>
              <a:ext cx="3276720" cy="2359080"/>
            </a:xfrm>
            <a:prstGeom prst="rect">
              <a:avLst/>
            </a:prstGeom>
            <a:ln w="25560">
              <a:solidFill>
                <a:srgbClr val="00ccff"/>
              </a:solidFill>
              <a:miter/>
            </a:ln>
            <a:effectLst>
              <a:outerShdw dist="107932" dir="2700000" blurRad="0" rotWithShape="0">
                <a:srgbClr val="99ccff">
                  <a:alpha val="50000"/>
                </a:srgbClr>
              </a:outerShdw>
            </a:effectLst>
          </p:spPr>
        </p:pic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762120" y="3276720"/>
              <a:ext cx="2057400" cy="1411200"/>
            </a:xfrm>
            <a:prstGeom prst="rect">
              <a:avLst/>
            </a:prstGeom>
            <a:ln w="25560">
              <a:solidFill>
                <a:srgbClr val="00ccff"/>
              </a:solidFill>
              <a:miter/>
            </a:ln>
            <a:effectLst>
              <a:outerShdw dist="107932" dir="2700000" blurRad="0" rotWithShape="0">
                <a:srgbClr val="99ccff">
                  <a:alpha val="50000"/>
                </a:srgbClr>
              </a:outerShdw>
            </a:effectLst>
          </p:spPr>
        </p:pic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2362320" y="3962520"/>
              <a:ext cx="2971800" cy="2228760"/>
            </a:xfrm>
            <a:prstGeom prst="rect">
              <a:avLst/>
            </a:prstGeom>
            <a:ln w="25560">
              <a:solidFill>
                <a:srgbClr val="00ccff"/>
              </a:solidFill>
              <a:miter/>
            </a:ln>
            <a:effectLst>
              <a:outerShdw dist="107932" dir="2700000" blurRad="0" rotWithShape="0">
                <a:srgbClr val="99ccff">
                  <a:alpha val="50000"/>
                </a:srgbClr>
              </a:outerShdw>
            </a:effectLst>
          </p:spPr>
        </p:pic>
      </p:grpSp>
    </p:spTree>
  </p:cSld>
  <p:transition>
    <p:comb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1828800" y="1104840"/>
            <a:ext cx="3917880" cy="1382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67652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解方程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52480" y="2095560"/>
            <a:ext cx="6569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去分母（方程两边同乘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×1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去括号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合并同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2743200" y="5981760"/>
            <a:ext cx="1130400" cy="8762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6477120" y="3848040"/>
            <a:ext cx="1771560" cy="1771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2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0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143000" y="666720"/>
            <a:ext cx="6248520" cy="9493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066680" y="1581120"/>
            <a:ext cx="800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去分母（方程两边同乘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×1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去括号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合并同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7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系数化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2362320" y="5848200"/>
            <a:ext cx="1143000" cy="857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1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10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10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10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3" dur="1000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1143000" y="533520"/>
            <a:ext cx="5029200" cy="971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905184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067280" y="386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08360" y="335772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50840" y="1644480"/>
            <a:ext cx="7483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去分母（两边同乘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去括号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8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合并同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1969920" y="5638680"/>
            <a:ext cx="1089360" cy="779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2" dur="8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3" dur="8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8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2" dur="8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3" dur="8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8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8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2" dur="8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3" dur="8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8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8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8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3" dur="8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8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8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8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3" dur="8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8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8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8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3" dur="8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8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8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2" dur="8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3" dur="8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8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8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8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3" dur="8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8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8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2" dur="8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3" dur="8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8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1317600" y="3147840"/>
            <a:ext cx="5975280" cy="3024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295280" y="20574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下列方程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4635360" y="2995560"/>
            <a:ext cx="1168560" cy="8762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6902280" y="4138560"/>
            <a:ext cx="139716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7607160" y="5205240"/>
            <a:ext cx="1016280" cy="87660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1371600" y="762120"/>
            <a:ext cx="2620800" cy="852480"/>
            <a:chOff x="1371600" y="762120"/>
            <a:chExt cx="2620800" cy="852480"/>
          </a:xfrm>
        </p:grpSpPr>
        <p:sp>
          <p:nvSpPr>
            <p:cNvPr id="380" name=""/>
            <p:cNvSpPr/>
            <p:nvPr/>
          </p:nvSpPr>
          <p:spPr>
            <a:xfrm>
              <a:off x="1839960" y="82080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81" name="" descr=""/>
            <p:cNvPicPr/>
            <p:nvPr/>
          </p:nvPicPr>
          <p:blipFill>
            <a:blip r:embed="rId6"/>
            <a:stretch/>
          </p:blipFill>
          <p:spPr>
            <a:xfrm>
              <a:off x="1371600" y="76212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d"/>
  </p:transition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0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1143000"/>
            <a:ext cx="7178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一件工作，甲单独做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完成，乙单独做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完成．那么两人合作多少小时完成？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3509280"/>
            <a:ext cx="6934320" cy="1501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分析：本题是一个典型的工程类应用题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甲单独做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小时完成的工作量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乙单独做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小时完成的工作量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完成的工作总量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046" dur="indefinite" restart="never" nodeType="tmRoot">
          <p:childTnLst>
            <p:seq>
              <p:cTn id="2047" dur="indefinite" nodeType="mainSeq">
                <p:childTnLst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914400" y="8377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解：设两人合作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时完成此工作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可列方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23880" y="5562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两人合作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时完成．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1881000" cy="854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76520" y="3048120"/>
            <a:ext cx="397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去分母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合并同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58" dur="indefinite" restart="never" nodeType="tmRoot">
          <p:childTnLst>
            <p:seq>
              <p:cTn id="2059" dur="indefinite" nodeType="mainSeq">
                <p:childTnLst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4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5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6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3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0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838080" y="961560"/>
            <a:ext cx="77724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一件工作，甲单独做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完成，乙单独做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完成．甲先单独做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，然后乙加入合作，那么两人合作还要多少小时完成？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4114800"/>
            <a:ext cx="7467840" cy="162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分析：把总工作量看作是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设还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小时才能完成工作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甲的工作总量＋乙的工作总量＝总工作量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108" dur="indefinite" restart="never" nodeType="tmRoot">
          <p:childTnLst>
            <p:seq>
              <p:cTn id="2109" dur="indefinite" nodeType="mainSeq">
                <p:childTnLst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5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81080" y="55620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两人合作还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时完成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43000" y="8380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解：设两人合作还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时完成此工作，列方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2451240" cy="8762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981080" y="2895480"/>
            <a:ext cx="5197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去分母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移项及合并同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125" dur="indefinite" restart="never" nodeType="tmRoot">
          <p:childTnLst>
            <p:seq>
              <p:cTn id="2126" dur="indefinite" nodeType="mainSeq">
                <p:childTnLst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6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1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2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" y="1190160"/>
            <a:ext cx="762012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一件工作，甲单独做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完成，甲、乙合做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完成．甲先单独做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，余下的乙单独做，那么乙还要多少小时完成？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3962520"/>
            <a:ext cx="7848720" cy="162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分析：把总工作量看作是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设乙还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小时才能完成工作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甲的工作总量＋乙的工作总量＝总工作量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177" dur="indefinite" restart="never" nodeType="tmRoot">
          <p:childTnLst>
            <p:seq>
              <p:cTn id="2178" dur="indefinite" nodeType="mainSeq">
                <p:childTnLst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371600" y="60332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乙还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时完成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73640" y="928800"/>
            <a:ext cx="47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乙还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时完成此工作，依题意可得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981080" y="1538280"/>
            <a:ext cx="3060720" cy="8762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905120" y="2452680"/>
            <a:ext cx="556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去分母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去括号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移项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5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0" dur="2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5" dur="2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0" dur="2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5" dur="20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0" dur="20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5" dur="20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0" dur="20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2971800"/>
            <a:ext cx="76201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知识与能力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掌握解一元一次方程中“去分母”、“去括号”的方法，并能解此类型的方程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了解一元一次方程解法的一般步骤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123720" y="533520"/>
            <a:ext cx="2849400" cy="1709640"/>
            <a:chOff x="3123720" y="533520"/>
            <a:chExt cx="2849400" cy="1709640"/>
          </a:xfrm>
        </p:grpSpPr>
        <p:sp>
          <p:nvSpPr>
            <p:cNvPr id="100" name="filecab3"/>
            <p:cNvSpPr/>
            <p:nvPr/>
          </p:nvSpPr>
          <p:spPr>
            <a:xfrm rot="10800000">
              <a:off x="3123720" y="140472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741480" y="53352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838080" y="1523880"/>
            <a:ext cx="7162920" cy="46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工程问题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　</a:t>
            </a:r>
            <a:r>
              <a:rPr b="0" lang="zh-CN" sz="3000" spc="-1" strike="noStrike">
                <a:solidFill>
                  <a:srgbClr val="0033cc"/>
                </a:solidFill>
                <a:latin typeface="黑体"/>
                <a:ea typeface="黑体"/>
              </a:rPr>
              <a:t>　</a:t>
            </a: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．工作量、工作时间、工作效率；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．这三个基本量的关系是：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黑体"/>
                <a:ea typeface="黑体"/>
              </a:rPr>
              <a:t>　　</a:t>
            </a:r>
            <a:r>
              <a:rPr b="0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工作量</a:t>
            </a:r>
            <a:r>
              <a:rPr b="0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=</a:t>
            </a:r>
            <a:r>
              <a:rPr b="0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工作时间</a:t>
            </a:r>
            <a:r>
              <a:rPr b="0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×</a:t>
            </a:r>
            <a:r>
              <a:rPr b="0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工作效率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　　工作效率</a:t>
            </a:r>
            <a:r>
              <a:rPr b="0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=</a:t>
            </a:r>
            <a:r>
              <a:rPr b="0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工作量</a:t>
            </a:r>
            <a:r>
              <a:rPr b="0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÷</a:t>
            </a:r>
            <a:r>
              <a:rPr b="0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工作时间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　　工作时间</a:t>
            </a:r>
            <a:r>
              <a:rPr b="0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=</a:t>
            </a:r>
            <a:r>
              <a:rPr b="0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工作量</a:t>
            </a:r>
            <a:r>
              <a:rPr b="0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÷</a:t>
            </a:r>
            <a:r>
              <a:rPr b="0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工作效率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黑体"/>
                <a:ea typeface="黑体"/>
              </a:rPr>
              <a:t>　　</a:t>
            </a: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．工作总量通常看作单位“</a:t>
            </a: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”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429000" y="609480"/>
            <a:ext cx="2770200" cy="947880"/>
            <a:chOff x="3429000" y="609480"/>
            <a:chExt cx="2770200" cy="947880"/>
          </a:xfrm>
        </p:grpSpPr>
        <p:sp>
          <p:nvSpPr>
            <p:cNvPr id="403" name=""/>
            <p:cNvSpPr txBox="1"/>
            <p:nvPr/>
          </p:nvSpPr>
          <p:spPr>
            <a:xfrm>
              <a:off x="3429000" y="83340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5292720" y="609480"/>
              <a:ext cx="906480" cy="947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u"/>
  </p:transition>
  <p:timing>
    <p:tnLst>
      <p:par>
        <p:cTn id="2246" dur="indefinite" restart="never" nodeType="tmRoot">
          <p:childTnLst>
            <p:seq>
              <p:cTn id="2247" dur="indefinite" nodeType="mainSeq">
                <p:childTnLst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2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3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533520" y="2057400"/>
            <a:ext cx="8076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明预定搭乘家门口的公共汽车赶往火车站，去家乡看望爷爷．在行驶了三分之一路程后，估计继续乘公共汽车将会在火车开车后半小时到达火车站，便随即下车改乘出租车，车速提高了一倍，结果赶在火车开车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钟到达火车站．已知公共汽车的平均速度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问小明家到火车站有多远？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219320" y="762120"/>
            <a:ext cx="2620800" cy="852480"/>
            <a:chOff x="1219320" y="762120"/>
            <a:chExt cx="2620800" cy="852480"/>
          </a:xfrm>
        </p:grpSpPr>
        <p:sp>
          <p:nvSpPr>
            <p:cNvPr id="407" name=""/>
            <p:cNvSpPr/>
            <p:nvPr/>
          </p:nvSpPr>
          <p:spPr>
            <a:xfrm>
              <a:off x="1687680" y="82080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08" name="" descr=""/>
            <p:cNvPicPr/>
            <p:nvPr/>
          </p:nvPicPr>
          <p:blipFill>
            <a:blip r:embed="rId2"/>
            <a:stretch/>
          </p:blipFill>
          <p:spPr>
            <a:xfrm>
              <a:off x="1219320" y="76212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d"/>
  </p:transition>
  <p:timing>
    <p:tnLst>
      <p:par>
        <p:cTn id="2321" dur="indefinite" restart="never" nodeType="tmRoot">
          <p:childTnLst>
            <p:seq>
              <p:cTn id="2322" dur="indefinite" nodeType="mainSeq">
                <p:childTnLst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8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8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1295280"/>
            <a:ext cx="7162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设小明家到火车站路程的    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千米，列方程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867280" y="1181160"/>
            <a:ext cx="266760" cy="8762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3467160" cy="8762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752480" y="3505320"/>
            <a:ext cx="62485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则小明家到火车站的路程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千米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447920" y="5410080"/>
            <a:ext cx="69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小明家到火车站的路程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千米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338" dur="indefinite" restart="never" nodeType="tmRoot">
          <p:childTnLst>
            <p:seq>
              <p:cTn id="2339" dur="indefinite" nodeType="mainSeq">
                <p:childTnLst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0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3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8" dur="8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9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09480" y="1884240"/>
            <a:ext cx="815364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解一元一次方程的步骤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去分母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去括号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移项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合并同类项，化为最简方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≠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的形式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55640" y="5699160"/>
            <a:ext cx="168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 用一元一次方程解决实际问题方面．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200040" y="0"/>
            <a:ext cx="2849400" cy="1709640"/>
            <a:chOff x="3200040" y="0"/>
            <a:chExt cx="2849400" cy="1709640"/>
          </a:xfrm>
        </p:grpSpPr>
        <p:sp>
          <p:nvSpPr>
            <p:cNvPr id="417" name="filecab3"/>
            <p:cNvSpPr/>
            <p:nvPr/>
          </p:nvSpPr>
          <p:spPr>
            <a:xfrm rot="10800000">
              <a:off x="320004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2"/>
            <a:stretch/>
          </p:blipFill>
          <p:spPr>
            <a:xfrm>
              <a:off x="381780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l"/>
  </p:transition>
  <p:timing>
    <p:tnLst>
      <p:par>
        <p:cTn id="2374" dur="indefinite" restart="never" nodeType="tmRoot">
          <p:childTnLst>
            <p:seq>
              <p:cTn id="2375" dur="indefinite" nodeType="mainSeq">
                <p:childTnLst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2133720"/>
            <a:ext cx="78487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某工厂今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月份的产量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万元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月份上升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万元，设这两个月的平均增长率为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，则（          ）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 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72       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 ＋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32767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123720" y="0"/>
            <a:ext cx="2849400" cy="1709640"/>
            <a:chOff x="3123720" y="0"/>
            <a:chExt cx="2849400" cy="1709640"/>
          </a:xfrm>
        </p:grpSpPr>
        <p:sp>
          <p:nvSpPr>
            <p:cNvPr id="422" name="filecab3"/>
            <p:cNvSpPr/>
            <p:nvPr/>
          </p:nvSpPr>
          <p:spPr>
            <a:xfrm rot="10800000">
              <a:off x="312372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2"/>
            <a:stretch/>
          </p:blipFill>
          <p:spPr>
            <a:xfrm>
              <a:off x="374148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2444" dur="indefinite" restart="never" nodeType="tmRoot">
          <p:childTnLst>
            <p:seq>
              <p:cTn id="2445" dur="indefinite" nodeType="mainSeq">
                <p:childTnLst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762120" y="1295280"/>
            <a:ext cx="777240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甲、乙二人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: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比例投资开办了一家公司，约定除去各项开支外，所得利润投资比例分成，若第一年赢得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4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元，那么甲、乙二人分别应分得（         ）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元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元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元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元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00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元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00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元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82920" y="2895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473" dur="indefinite" restart="never" nodeType="tmRoot">
          <p:childTnLst>
            <p:seq>
              <p:cTn id="2474" dur="indefinite" nodeType="mainSeq">
                <p:childTnLst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9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95280" y="1219320"/>
            <a:ext cx="451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解下列方程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1066680" y="2413080"/>
            <a:ext cx="6070680" cy="32004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29200" y="259092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46880" y="5226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7543800" y="3657600"/>
            <a:ext cx="1092240" cy="8334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5943600" y="495288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489" dur="indefinite" restart="never" nodeType="tmRoot">
          <p:childTnLst>
            <p:seq>
              <p:cTn id="2490" dur="indefinite" nodeType="mainSeq">
                <p:childTnLst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923240" cy="2816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838080" y="914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讨论关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方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情况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14" dur="indefinite" restart="never" nodeType="tmRoot">
          <p:childTnLst>
            <p:seq>
              <p:cTn id="2515" dur="indefinite" nodeType="mainSeq">
                <p:childTnLst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0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1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838080" y="53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１与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是相反数，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1676520"/>
            <a:ext cx="6933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解：根据题意得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＋（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＝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去括号，得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称项，得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合并同类项，得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得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.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值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.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31" dur="indefinite" restart="never" nodeType="tmRoot">
          <p:childTnLst>
            <p:seq>
              <p:cTn id="2532" dur="indefinite" nodeType="mainSeq">
                <p:childTnLst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3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8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3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8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3" dur="2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8" dur="20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3" dur="20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8" dur="20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3" dur="2000"/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8" dur="2000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3" dur="2000"/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6782040" cy="8766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62120" y="2057400"/>
            <a:ext cx="44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根据题意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1295280" y="2819520"/>
            <a:ext cx="3276720" cy="10047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055520" y="4038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2133720" y="4419720"/>
            <a:ext cx="1587240" cy="8762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939960" y="5410080"/>
            <a:ext cx="7594560" cy="8766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835560" y="100476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2362320"/>
            <a:ext cx="73915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过程与方法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通过运用算术和列方程两种方法解决实际问题的过程，体会到列方程解应用题更为简捷明了；掌握去括号解方程的方法，会用去分母的方法解一元一次方程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培养分析问题，解决问题的能力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819160" y="152280"/>
            <a:ext cx="2849400" cy="1709640"/>
            <a:chOff x="2819160" y="152280"/>
            <a:chExt cx="2849400" cy="1709640"/>
          </a:xfrm>
        </p:grpSpPr>
        <p:sp>
          <p:nvSpPr>
            <p:cNvPr id="104" name="filecab3"/>
            <p:cNvSpPr/>
            <p:nvPr/>
          </p:nvSpPr>
          <p:spPr>
            <a:xfrm rot="10800000">
              <a:off x="2819160" y="102348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3436920" y="15228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85720" y="1969920"/>
            <a:ext cx="8183520" cy="20923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212760" y="4343400"/>
            <a:ext cx="7245360" cy="175752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2971440" y="0"/>
            <a:ext cx="2849400" cy="1709640"/>
            <a:chOff x="2971440" y="0"/>
            <a:chExt cx="2849400" cy="1709640"/>
          </a:xfrm>
        </p:grpSpPr>
        <p:sp>
          <p:nvSpPr>
            <p:cNvPr id="446" name="filecab3"/>
            <p:cNvSpPr/>
            <p:nvPr/>
          </p:nvSpPr>
          <p:spPr>
            <a:xfrm rot="10800000">
              <a:off x="297144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习题答案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47" name="" descr=""/>
            <p:cNvPicPr/>
            <p:nvPr/>
          </p:nvPicPr>
          <p:blipFill>
            <a:blip r:embed="rId4"/>
            <a:stretch/>
          </p:blipFill>
          <p:spPr>
            <a:xfrm>
              <a:off x="358920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7238880" y="99072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629" dur="indefinite" restart="never" nodeType="tmRoot">
          <p:childTnLst>
            <p:seq>
              <p:cTn id="2630" dur="indefinite" nodeType="mainSeq">
                <p:childTnLst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1" dur="8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2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8157960" cy="45194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659" dur="indefinite" restart="never" nodeType="tmRoot">
          <p:childTnLst>
            <p:seq>
              <p:cTn id="2660" dur="indefinite" nodeType="mainSeq">
                <p:childTnLst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5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6770520" cy="4395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666" dur="indefinite" restart="never" nodeType="tmRoot">
          <p:childTnLst>
            <p:seq>
              <p:cTn id="2667" dur="indefinite" nodeType="mainSeq">
                <p:childTnLst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1098720" y="685800"/>
            <a:ext cx="7054560" cy="5205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673" dur="indefinite" restart="never" nodeType="tmRoot">
          <p:childTnLst>
            <p:seq>
              <p:cTn id="2674" dur="indefinite" nodeType="mainSeq">
                <p:childTnLst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2590920"/>
            <a:ext cx="7315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情感态度与价值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　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列方程解决实际问题，感受数学的应用价值，激发学习数学的信心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76360" y="95400"/>
            <a:ext cx="2849400" cy="1709640"/>
            <a:chOff x="3276360" y="95400"/>
            <a:chExt cx="2849400" cy="1709640"/>
          </a:xfrm>
        </p:grpSpPr>
        <p:sp>
          <p:nvSpPr>
            <p:cNvPr id="109" name="filecab3"/>
            <p:cNvSpPr/>
            <p:nvPr/>
          </p:nvSpPr>
          <p:spPr>
            <a:xfrm rot="10800000">
              <a:off x="3276360" y="9666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3894120" y="9540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1981080"/>
            <a:ext cx="746748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重点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含有括号、分母的一元一次方程的解法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难点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弄清列方程解应用题的思想方法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会用去括号、去分母解一元一次方程．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819520" y="0"/>
            <a:ext cx="3551040" cy="1692000"/>
            <a:chOff x="2819520" y="0"/>
            <a:chExt cx="3551040" cy="1692000"/>
          </a:xfrm>
        </p:grpSpPr>
        <p:sp>
          <p:nvSpPr>
            <p:cNvPr id="113" name="filecab3"/>
            <p:cNvSpPr/>
            <p:nvPr/>
          </p:nvSpPr>
          <p:spPr>
            <a:xfrm rot="10800000">
              <a:off x="2819520" y="853200"/>
              <a:ext cx="3551040" cy="83844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重难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3808080" y="0"/>
              <a:ext cx="161892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6-30T01:13:04Z</dcterms:modified>
  <cp:revision>1</cp:revision>
  <dc:subject/>
  <dc:title>3.3解一元一次方程（二）--去括号与去分母</dc:title>
</cp:coreProperties>
</file>